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27.jpeg" ContentType="image/jpeg"/>
  <Override PartName="/ppt/media/image1.jpeg" ContentType="image/jpeg"/>
  <Override PartName="/ppt/media/image10.png" ContentType="image/png"/>
  <Override PartName="/ppt/media/image34.jpeg" ContentType="image/jpeg"/>
  <Override PartName="/ppt/media/image28.png" ContentType="image/png"/>
  <Override PartName="/ppt/media/image7.jpeg" ContentType="image/jpeg"/>
  <Override PartName="/ppt/media/image20.png" ContentType="image/png"/>
  <Override PartName="/ppt/media/image39.png" ContentType="image/png"/>
  <Override PartName="/ppt/media/image41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38.png" ContentType="image/png"/>
  <Override PartName="/ppt/media/image43.png" ContentType="image/png"/>
  <Override PartName="/ppt/media/image5.png" ContentType="image/png"/>
  <Override PartName="/ppt/media/image35.png" ContentType="image/png"/>
  <Override PartName="/ppt/media/image36.png" ContentType="image/png"/>
  <Override PartName="/ppt/media/image6.png" ContentType="image/png"/>
  <Override PartName="/ppt/media/image2.png" ContentType="image/png"/>
  <Override PartName="/ppt/media/image3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6D9C-E28A-45D1-BD5F-B49AB64B13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6E04-4D73-4AD7-AF39-B48A3F8D6A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FBC3-1B55-4123-A40C-C0134127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CA9-32BB-4C1D-A7AA-F5FB4079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6EB-6EE7-47C4-B355-3005DD4C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4D3E-4A11-41CC-964C-F13196FB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4D945-045E-464C-97F7-75677257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B48DA-61AA-4376-B386-9AD8C418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5499E-A9F3-41C1-A448-F75535EA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07CCB-7C72-4303-8E2D-55ABEBAC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0ED62-D338-4017-98F4-C7B0E002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64165-CC41-44A8-8CE1-44E8AA31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5D66E-C01C-4F72-BBB7-528A03DC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B11-3B23-43D1-8F5B-2F35C20D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35552-90E0-479F-9A6C-A92AD2CC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9C37D-E581-4FC2-8DA9-3D93A690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9E76F-8943-4F4C-8537-D7D7DA31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D0355-5CE1-426F-96DE-3E678542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F1CB0-6F5C-4AA3-99EF-C49FAB31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D24FD-2D1F-4873-A495-60500FCA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1AD20-BAAE-4E06-913B-E4CF4DB5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19CD8-D2E1-4723-BAFD-94EEDBE0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2A9F6-652E-4DD1-98E5-A26E80AB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0E4A5-65BC-40E7-BEFC-7D2DE0EE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44A-C7E5-485D-BB0B-D0B9B843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4FE1B-C4A3-4F8D-A33D-D131D99D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077BC-5EF8-46AE-AC10-C073DC54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8D4E-1AFE-4378-B969-CBD3EB98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725A4-7A5A-4B5B-93FB-D502111B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CD69E-ABC3-46D1-9C7E-BCCA748D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66891-A916-4F1A-9FE6-0B1BF5C2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305DC-483F-4DDE-B04B-717F985B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CFB22A-64A6-474B-83DA-8390BE33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34AB23-150B-4C5F-B341-73774013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F54B17-CED3-4088-A474-70C986BA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59FF-A601-4303-8A77-7F256CDE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FA9317-8C4F-4031-874E-10BB45E8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500E3E-D08B-427B-B68D-FA8FDDCC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1832CD-8EC6-4CF1-95BB-44BC516A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7BCCA9-347B-42DE-83F7-E80B7BDB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0D0322-0A80-4F24-9697-DD49EF3C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39E334-C503-42DF-9025-C0C1C409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18E83B-B323-4EB9-8DE9-0E0DA01B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E0365C-11DA-4D20-ADFE-E12835A3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25B275-AA9F-4142-A74A-F780BDF0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2CD7-685A-4934-B792-70F0F9F4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072-46F3-48CB-83B3-F338B0EE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4F1-8556-4A42-A5BA-0ED8BD6B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3866-C3F1-4669-AE2B-BA6104B1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8E92-02CA-4010-9CF0-C2EABEA7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7dde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43E0-4C97-46EE-8752-D81C1A5337F4}" type="slidenum">
              <a:rPr b="0" lang="ru-RU" sz="1600" spc="-1" strike="noStrike">
                <a:solidFill>
                  <a:srgbClr val="b7dde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c0504d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7dde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B126-A650-49FD-9D8D-5815A06A6278}" type="slidenum">
              <a:rPr b="0" lang="ru-RU" sz="1600" spc="-1" strike="noStrike">
                <a:solidFill>
                  <a:srgbClr val="b7dde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7dde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9A73-6FAE-4A8E-B44B-38D1E0794B8B}" type="slidenum">
              <a:rPr b="0" lang="ru-RU" sz="1600" spc="-1" strike="noStrike">
                <a:solidFill>
                  <a:srgbClr val="b7dde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cfb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639720" indent="-27288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1004760" indent="-228600">
              <a:spcBef>
                <a:spcPts val="601"/>
              </a:spcBef>
              <a:buClr>
                <a:srgbClr val="8c38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27944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554120" indent="-228600">
              <a:spcBef>
                <a:spcPts val="601"/>
              </a:spcBef>
              <a:buClr>
                <a:srgbClr val="a9454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7dde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B0AD-505F-4826-8115-1A405D6F8D0A}" type="slidenum">
              <a:rPr b="0" lang="ru-RU" sz="1600" spc="-1" strike="noStrike">
                <a:solidFill>
                  <a:srgbClr val="b7dde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ru.wikipedia.org/wiki/&#1060;&#1072;&#1081;&#1083;:Ekaterina_II_and_Lomonosov.jpg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700440"/>
            <a:ext cx="830592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рмакова Ю.А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читель начальных классов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У Дергаевская СОШ № 23,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Раменско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78" name="Заголовок 2" descr=""/>
          <p:cNvPicPr/>
          <p:nvPr/>
        </p:nvPicPr>
        <p:blipFill>
          <a:blip r:embed="rId1"/>
          <a:stretch/>
        </p:blipFill>
        <p:spPr>
          <a:xfrm>
            <a:off x="420840" y="390600"/>
            <a:ext cx="8321400" cy="2760480"/>
          </a:xfrm>
          <a:prstGeom prst="rect">
            <a:avLst/>
          </a:prstGeom>
          <a:ln w="0">
            <a:noFill/>
          </a:ln>
        </p:spPr>
      </p:pic>
      <p:pic>
        <p:nvPicPr>
          <p:cNvPr id="179" name="Звук с компакт-диска 4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2" descr=""/>
          <p:cNvPicPr/>
          <p:nvPr/>
        </p:nvPicPr>
        <p:blipFill>
          <a:blip r:embed="rId1"/>
          <a:stretch/>
        </p:blipFill>
        <p:spPr>
          <a:xfrm>
            <a:off x="450720" y="-317520"/>
            <a:ext cx="8242560" cy="1182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Documents and Settings\Владелец\Мои документы\Мои рисунки\1008.jpg"/>
          <p:cNvPicPr/>
          <p:nvPr/>
        </p:nvPicPr>
        <p:blipFill>
          <a:blip r:embed="rId2"/>
          <a:stretch/>
        </p:blipFill>
        <p:spPr>
          <a:xfrm>
            <a:off x="214200" y="785880"/>
            <a:ext cx="4494240" cy="30002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Documents and Settings\Владелец\Мои документы\Мои рисунки\zal4_img3.jpg"/>
          <p:cNvPicPr/>
          <p:nvPr/>
        </p:nvPicPr>
        <p:blipFill>
          <a:blip r:embed="rId3"/>
          <a:stretch/>
        </p:blipFill>
        <p:spPr>
          <a:xfrm>
            <a:off x="4286160" y="2928960"/>
            <a:ext cx="464364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2" descr=""/>
          <p:cNvPicPr/>
          <p:nvPr/>
        </p:nvPicPr>
        <p:blipFill>
          <a:blip r:embed="rId1"/>
          <a:stretch/>
        </p:blipFill>
        <p:spPr>
          <a:xfrm>
            <a:off x="450720" y="-249120"/>
            <a:ext cx="8242560" cy="1182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Владелец\Мои документы\Мои рисунки\350x280.gif"/>
          <p:cNvPicPr/>
          <p:nvPr/>
        </p:nvPicPr>
        <p:blipFill>
          <a:blip r:embed="rId2"/>
          <a:stretch/>
        </p:blipFill>
        <p:spPr>
          <a:xfrm>
            <a:off x="785880" y="1071720"/>
            <a:ext cx="7500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2" descr=""/>
          <p:cNvPicPr/>
          <p:nvPr/>
        </p:nvPicPr>
        <p:blipFill>
          <a:blip r:embed="rId1"/>
          <a:stretch/>
        </p:blipFill>
        <p:spPr>
          <a:xfrm>
            <a:off x="457200" y="-4284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Documents and Settings\Владелец\Мои документы\Мои рисунки\навигатор 2\2005_11_11_rasvedka.jpg"/>
          <p:cNvPicPr/>
          <p:nvPr/>
        </p:nvPicPr>
        <p:blipFill>
          <a:blip r:embed="rId2"/>
          <a:stretch/>
        </p:blipFill>
        <p:spPr>
          <a:xfrm>
            <a:off x="4572000" y="3643200"/>
            <a:ext cx="4159080" cy="2551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Documents and Settings\Владелец\Мои документы\Мои рисунки\навигатор 2\lomonosov.jpg"/>
          <p:cNvPicPr/>
          <p:nvPr/>
        </p:nvPicPr>
        <p:blipFill>
          <a:blip r:embed="rId3"/>
          <a:stretch/>
        </p:blipFill>
        <p:spPr>
          <a:xfrm>
            <a:off x="285840" y="928800"/>
            <a:ext cx="37861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Заголовок 2" descr=""/>
          <p:cNvPicPr/>
          <p:nvPr/>
        </p:nvPicPr>
        <p:blipFill>
          <a:blip r:embed="rId1"/>
          <a:stretch/>
        </p:blipFill>
        <p:spPr>
          <a:xfrm>
            <a:off x="291960" y="-103320"/>
            <a:ext cx="8560080" cy="1182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Documents and Settings\Владелец\Мои документы\Мои рисунки\3323pain2307.jpg"/>
          <p:cNvPicPr/>
          <p:nvPr/>
        </p:nvPicPr>
        <p:blipFill>
          <a:blip r:embed="rId2"/>
          <a:stretch/>
        </p:blipFill>
        <p:spPr>
          <a:xfrm>
            <a:off x="214200" y="1071720"/>
            <a:ext cx="5143680" cy="4065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C:\Documents and Settings\Владелец\Мои документы\Мои рисунки\навигатор 2\1001319037.jpg"/>
          <p:cNvPicPr/>
          <p:nvPr/>
        </p:nvPicPr>
        <p:blipFill>
          <a:blip r:embed="rId3"/>
          <a:stretch/>
        </p:blipFill>
        <p:spPr>
          <a:xfrm>
            <a:off x="5715000" y="1717560"/>
            <a:ext cx="307656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2" descr=""/>
          <p:cNvPicPr/>
          <p:nvPr/>
        </p:nvPicPr>
        <p:blipFill>
          <a:blip r:embed="rId1"/>
          <a:stretch/>
        </p:blipFill>
        <p:spPr>
          <a:xfrm>
            <a:off x="304920" y="146160"/>
            <a:ext cx="8528040" cy="1231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http://upload.wikimedia.org/wikipedia/commons/thumb/f/fb/Ekaterina_II_and_Lomonosov.jpg/250px-Ekaterina_II_and_Lomonosov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920" y="1357200"/>
            <a:ext cx="3786120" cy="478656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5"/>
          <p:cNvSpPr/>
          <p:nvPr/>
        </p:nvSpPr>
        <p:spPr>
          <a:xfrm>
            <a:off x="4071960" y="1428840"/>
            <a:ext cx="47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а) закончил 1-й том Российской истор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б) составил «Краткий летописец с родословием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2" descr=""/>
          <p:cNvPicPr/>
          <p:nvPr/>
        </p:nvPicPr>
        <p:blipFill>
          <a:blip r:embed="rId1"/>
          <a:stretch/>
        </p:blipFill>
        <p:spPr>
          <a:xfrm>
            <a:off x="450720" y="-115920"/>
            <a:ext cx="8242560" cy="981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350px-Poltava"/>
          <p:cNvPicPr/>
          <p:nvPr/>
        </p:nvPicPr>
        <p:blipFill>
          <a:blip r:embed="rId2"/>
          <a:stretch/>
        </p:blipFill>
        <p:spPr>
          <a:xfrm>
            <a:off x="428760" y="928800"/>
            <a:ext cx="82152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2243160" y="268200"/>
            <a:ext cx="6450120" cy="1096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"/>
          <p:cNvPicPr/>
          <p:nvPr/>
        </p:nvPicPr>
        <p:blipFill>
          <a:blip r:embed="rId2"/>
          <a:stretch/>
        </p:blipFill>
        <p:spPr>
          <a:xfrm>
            <a:off x="5857920" y="2500200"/>
            <a:ext cx="2981160" cy="4000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"/>
          <p:cNvPicPr/>
          <p:nvPr/>
        </p:nvPicPr>
        <p:blipFill>
          <a:blip r:embed="rId3"/>
          <a:stretch/>
        </p:blipFill>
        <p:spPr>
          <a:xfrm>
            <a:off x="0" y="2755800"/>
            <a:ext cx="5072040" cy="4102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1857240" cy="24447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3"/>
          <p:cNvSpPr/>
          <p:nvPr/>
        </p:nvSpPr>
        <p:spPr>
          <a:xfrm>
            <a:off x="2916360" y="1412640"/>
            <a:ext cx="56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25 января 1755 года был открыт первый в России Московский университ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68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68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274680" y="152280"/>
            <a:ext cx="8448480" cy="2419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500040" y="2714760"/>
            <a:ext cx="4857840" cy="4006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Герб"/>
          <p:cNvPicPr/>
          <p:nvPr/>
        </p:nvPicPr>
        <p:blipFill>
          <a:blip r:embed="rId3"/>
          <a:stretch/>
        </p:blipFill>
        <p:spPr>
          <a:xfrm>
            <a:off x="6429240" y="2708280"/>
            <a:ext cx="2390760" cy="2394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2" descr=""/>
          <p:cNvPicPr/>
          <p:nvPr/>
        </p:nvPicPr>
        <p:blipFill>
          <a:blip r:embed="rId1"/>
          <a:stretch/>
        </p:blipFill>
        <p:spPr>
          <a:xfrm>
            <a:off x="262080" y="19080"/>
            <a:ext cx="8424720" cy="1011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Владелец\Мои документы\Мои рисунки\4February2007_25_3.jpg"/>
          <p:cNvPicPr/>
          <p:nvPr/>
        </p:nvPicPr>
        <p:blipFill>
          <a:blip r:embed="rId2"/>
          <a:stretch/>
        </p:blipFill>
        <p:spPr>
          <a:xfrm>
            <a:off x="428760" y="78588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Владелец\Мои документы\Мои рисунки\146127.jpg"/>
          <p:cNvPicPr/>
          <p:nvPr/>
        </p:nvPicPr>
        <p:blipFill>
          <a:blip r:embed="rId3"/>
          <a:stretch/>
        </p:blipFill>
        <p:spPr>
          <a:xfrm>
            <a:off x="5357880" y="1143000"/>
            <a:ext cx="3429000" cy="43578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"/>
          <p:cNvSpPr/>
          <p:nvPr/>
        </p:nvSpPr>
        <p:spPr>
          <a:xfrm>
            <a:off x="2428920" y="542916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амятник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М.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Ломоносову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4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9" dur="5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511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img1"/>
          <p:cNvPicPr/>
          <p:nvPr/>
        </p:nvPicPr>
        <p:blipFill>
          <a:blip r:embed="rId1"/>
          <a:stretch/>
        </p:blipFill>
        <p:spPr>
          <a:xfrm>
            <a:off x="714240" y="285840"/>
            <a:ext cx="3929040" cy="4951440"/>
          </a:xfrm>
          <a:prstGeom prst="rect">
            <a:avLst/>
          </a:prstGeom>
          <a:ln w="0">
            <a:noFill/>
          </a:ln>
        </p:spPr>
      </p:pic>
      <p:pic>
        <p:nvPicPr>
          <p:cNvPr id="181" name="WordArt 7" descr=""/>
          <p:cNvPicPr/>
          <p:nvPr/>
        </p:nvPicPr>
        <p:blipFill>
          <a:blip r:embed="rId2"/>
          <a:stretch/>
        </p:blipFill>
        <p:spPr>
          <a:xfrm>
            <a:off x="208080" y="5138640"/>
            <a:ext cx="8570880" cy="13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lomonos1"/>
          <p:cNvPicPr/>
          <p:nvPr/>
        </p:nvPicPr>
        <p:blipFill>
          <a:blip r:embed="rId1"/>
          <a:stretch/>
        </p:blipFill>
        <p:spPr>
          <a:xfrm>
            <a:off x="468360" y="260280"/>
            <a:ext cx="4535280" cy="56167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233" name="WordArt 7"/>
          <p:cNvSpPr txBox="1"/>
          <p:nvPr/>
        </p:nvSpPr>
        <p:spPr>
          <a:xfrm>
            <a:off x="5219640" y="1413000"/>
            <a:ext cx="367344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ойдут века, а его имя с почтением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удет произноситься миллионами русских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людей и уважаться не в одной России,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 везде, куда ни проникнет русская речь,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усская грамота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2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5406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Cambria"/>
              </a:rPr>
              <a:t>За то терплю, что стараюсь защитить  труды Петра Великого, чтобы выучились россияне, чтобы показали своё достоинство.</a:t>
            </a:r>
            <a:r>
              <a:rPr b="0" lang="ru-RU" sz="48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2289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Cambria"/>
              </a:rPr>
              <a:t>Михаил Васильевич Ломоносов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4"/>
          <p:cNvSpPr txBox="1"/>
          <p:nvPr/>
        </p:nvSpPr>
        <p:spPr>
          <a:xfrm>
            <a:off x="285840" y="1071720"/>
            <a:ext cx="7215120" cy="528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19 ноября 1711 год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10"/>
          <p:cNvSpPr txBox="1"/>
          <p:nvPr/>
        </p:nvSpPr>
        <p:spPr>
          <a:xfrm>
            <a:off x="971640" y="4724280"/>
            <a:ext cx="7632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84" name="Прямоугольник 4" descr=""/>
          <p:cNvPicPr/>
          <p:nvPr/>
        </p:nvPicPr>
        <p:blipFill>
          <a:blip r:embed="rId1"/>
          <a:stretch/>
        </p:blipFill>
        <p:spPr>
          <a:xfrm>
            <a:off x="542880" y="4840200"/>
            <a:ext cx="8388360" cy="2060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D:\школа\клип\Клип_25_измен.размер_измен.размер.jpg"/>
          <p:cNvPicPr/>
          <p:nvPr/>
        </p:nvPicPr>
        <p:blipFill>
          <a:blip r:embed="rId2"/>
          <a:stretch/>
        </p:blipFill>
        <p:spPr>
          <a:xfrm>
            <a:off x="1357200" y="714240"/>
            <a:ext cx="6429600" cy="41436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7"/>
          <p:cNvSpPr txBox="1"/>
          <p:nvPr/>
        </p:nvSpPr>
        <p:spPr>
          <a:xfrm>
            <a:off x="4357800" y="0"/>
            <a:ext cx="47862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Юноша Ломонос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sp>
        <p:nvSpPr>
          <p:cNvPr id="187" name="WordArt 8"/>
          <p:cNvSpPr txBox="1"/>
          <p:nvPr/>
        </p:nvSpPr>
        <p:spPr>
          <a:xfrm>
            <a:off x="4357800" y="1214280"/>
            <a:ext cx="43574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идет в Москву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pic>
        <p:nvPicPr>
          <p:cNvPr id="188" name="Picture 6" descr="C:\Documents and Settings\Владелец\Мои документы\Мои рисунки\image_large.jpg"/>
          <p:cNvPicPr/>
          <p:nvPr/>
        </p:nvPicPr>
        <p:blipFill>
          <a:blip r:embed="rId1"/>
          <a:stretch/>
        </p:blipFill>
        <p:spPr>
          <a:xfrm>
            <a:off x="0" y="0"/>
            <a:ext cx="4071960" cy="613260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5"/>
          <p:cNvSpPr/>
          <p:nvPr/>
        </p:nvSpPr>
        <p:spPr>
          <a:xfrm>
            <a:off x="4071960" y="2643120"/>
            <a:ext cx="5072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е без добрых душ на свет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то-нибудь свезет в Москву,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Будешь в университет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он свершится наяв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pic>
        <p:nvPicPr>
          <p:cNvPr id="191" name="Picture 2" descr="C:\Documents and Settings\Владелец\Мои документы\Мои рисунки\MP Navigator\2009_11_18\IMG_0001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4216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5"/>
          <p:cNvSpPr/>
          <p:nvPr/>
        </p:nvSpPr>
        <p:spPr>
          <a:xfrm>
            <a:off x="4643280" y="1143000"/>
            <a:ext cx="4071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  <a:ea typeface="Arial"/>
              </a:rPr>
              <a:t>Карта пути Ломонос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  <a:ea typeface="Arial"/>
              </a:rPr>
              <a:t>в Москв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212760" y="-30240"/>
            <a:ext cx="8961480" cy="2035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D:\школа\клип\Клип_11_измен.размер.jpg"/>
          <p:cNvPicPr/>
          <p:nvPr/>
        </p:nvPicPr>
        <p:blipFill>
          <a:blip r:embed="rId2"/>
          <a:stretch/>
        </p:blipFill>
        <p:spPr>
          <a:xfrm>
            <a:off x="857160" y="2000160"/>
            <a:ext cx="7358040" cy="407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2" descr=""/>
          <p:cNvPicPr/>
          <p:nvPr/>
        </p:nvPicPr>
        <p:blipFill>
          <a:blip r:embed="rId1"/>
          <a:stretch/>
        </p:blipFill>
        <p:spPr>
          <a:xfrm>
            <a:off x="-6480" y="1122480"/>
            <a:ext cx="4614840" cy="2528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Владелец\Мои документы\Мои рисунки\250px-Lomonosov_%283%29.jpg"/>
          <p:cNvPicPr/>
          <p:nvPr/>
        </p:nvPicPr>
        <p:blipFill>
          <a:blip r:embed="rId2"/>
          <a:stretch/>
        </p:blipFill>
        <p:spPr>
          <a:xfrm>
            <a:off x="4143240" y="928800"/>
            <a:ext cx="5000760" cy="5929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9288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mbria"/>
              </a:rPr>
              <a:t>а) разработал правила грамматики русского языка, составил книгу «Российская грамматика»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mbria"/>
              </a:rPr>
              <a:t>б) выпустил «Риторику», которая стала по сути первой в России хрестоматией мировой литературы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mbria"/>
              </a:rPr>
              <a:t>в) в 1751 году выше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Cambria"/>
              </a:rPr>
              <a:t>«Сборник разных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mbria"/>
              </a:rPr>
              <a:t>сочинений в стихах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mbria"/>
              </a:rPr>
              <a:t>и прозе Михаила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mbria"/>
              </a:rPr>
              <a:t>Ломоносова»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601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99" name="Заголовок 2" descr=""/>
          <p:cNvPicPr/>
          <p:nvPr/>
        </p:nvPicPr>
        <p:blipFill>
          <a:blip r:embed="rId1"/>
          <a:stretch/>
        </p:blipFill>
        <p:spPr>
          <a:xfrm>
            <a:off x="176040" y="-317520"/>
            <a:ext cx="8791920" cy="1182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D:\школа\клип\Клип_14_измен.размер_измен.размер.jpg"/>
          <p:cNvPicPr/>
          <p:nvPr/>
        </p:nvPicPr>
        <p:blipFill>
          <a:blip r:embed="rId2"/>
          <a:stretch/>
        </p:blipFill>
        <p:spPr>
          <a:xfrm>
            <a:off x="4357800" y="3643200"/>
            <a:ext cx="427968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8:15:13Z</dcterms:created>
  <dc:creator>Светик&amp;Ko</dc:creator>
  <dc:description/>
  <dc:language>en-US</dc:language>
  <cp:lastModifiedBy>Пользователь Windows</cp:lastModifiedBy>
  <dcterms:modified xsi:type="dcterms:W3CDTF">2011-11-01T05:50:49Z</dcterms:modified>
  <cp:revision>35</cp:revision>
  <dc:subject/>
  <dc:title>Слайд 1</dc:title>
</cp:coreProperties>
</file>