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39.png" ContentType="image/png"/>
  <Override PartName="/ppt/media/image41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43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2.png" ContentType="image/png"/>
  <Override PartName="/ppt/media/image3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8056-93C9-42A8-9542-14D539303C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5E36-0892-41C5-806F-6D75332F8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F7E-2861-4F55-991C-C7056A23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09A-504B-4EB6-9FF2-D967BFC9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F31-EDB0-458D-B0EE-002646E3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E85-5310-48D7-805B-8B0BBBD6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41DE0-5964-4C45-B528-103AFC26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6AD09-C051-4E15-8AE7-D63B197E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159D0-988F-432D-85AD-0946412A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560E9-2DF5-4595-A9F8-3F3F0FCD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4E92D-16B5-433C-BB8B-08AB160F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C17A1-11EB-49BA-9137-835D76F1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01C95-45EE-4553-9C02-8B5AEB61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965-5B98-4BB7-8D9B-A2D06A71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06C02-8A8A-4788-8EA9-48163BA9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B1C1-9DA8-4963-9D0F-EB1C9C1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A0C34-8F4D-4B76-81C1-5152620E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C700C-E428-4647-ACD6-464EE097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70382-73ED-4FB9-B359-02C9C625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F061-545E-4FB0-B591-6821F090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BA8A6-3C2C-445F-ADB5-2D8C37A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B2EA-1682-4EDC-84AF-8960B8C4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CB3A-C4E6-4F2F-AEB2-64E981DC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D233-AC4F-4A79-BB3B-2C60BCC2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6D2-2D88-4D59-8E7F-2ADFE494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2F0E-DA81-4193-B109-902C442E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15D8-DCEF-4FD2-BA92-83B50526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71EA-9250-4440-B89E-7A5F0C20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2CD8-95A3-47FE-BCAF-99F95EC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2B06-3977-400E-A845-4409D205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5E99-D0A0-4CB7-B0F0-47CA0381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F110-EA27-473C-8702-7DE5125D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0253E-229B-4A1A-9162-ADA85197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6F1FA-DD40-4BB7-B410-E601BCDB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689120-8BE8-4A65-8444-7CB3267A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F99-2EE7-4A8D-8EFB-DEE30BF3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8C521-A615-4F5B-9042-0FCB3F23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72F66E-A79C-4F49-AD1C-ABE4DF02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E07DF-AF09-448B-B963-BB241059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5B1AD2-60F2-4AE4-97CB-6B0ABBA3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C6FB2-F04F-47B7-866A-5D6A66B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8A1D8A-FDE5-4C0C-B7A0-7BDFC94C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1A39E-5A82-4CE2-8A0E-995DBC6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6F6534-7117-4C99-A81F-BD4A2489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A921D-5E71-4072-99A6-2E39AE1A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F67-F35E-479F-BAB1-C7CC71D7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E94-D553-482E-B20A-2EC2A7C3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C26-B7EC-4AFA-9D26-28EFFBF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000-9195-4696-B06C-2493A665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B9A-D84D-47C9-9E61-A7938C0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7d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6EC0-5601-424F-9A0B-C604D8B3033C}" type="slidenum">
              <a:rPr b="0" lang="ru-RU" sz="1600" spc="-1" strike="noStrike">
                <a:solidFill>
                  <a:srgbClr val="b7dde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7d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8EF9-DEEC-4D57-A0B3-5AB42DCEA68D}" type="slidenum">
              <a:rPr b="0" lang="ru-RU" sz="1600" spc="-1" strike="noStrike">
                <a:solidFill>
                  <a:srgbClr val="b7dde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7d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7A26-5ADA-45F6-A206-E5A05E4F3784}" type="slidenum">
              <a:rPr b="0" lang="ru-RU" sz="1600" spc="-1" strike="noStrike">
                <a:solidFill>
                  <a:srgbClr val="b7dde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7d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F547-515F-41A4-AF0A-A188634BF32F}" type="slidenum">
              <a:rPr b="0" lang="ru-RU" sz="1600" spc="-1" strike="noStrike">
                <a:solidFill>
                  <a:srgbClr val="b7dde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ru.wikipedia.org/wiki/&#1060;&#1072;&#1081;&#1083;:Ekaterina_II_and_Lomonosov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рмакова Ю.А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тель начальных классов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У Дергаевская СОШ № 23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Раменско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420840" y="390600"/>
            <a:ext cx="8321400" cy="2760480"/>
          </a:xfrm>
          <a:prstGeom prst="rect">
            <a:avLst/>
          </a:prstGeom>
          <a:ln w="0">
            <a:noFill/>
          </a:ln>
        </p:spPr>
      </p:pic>
      <p:pic>
        <p:nvPicPr>
          <p:cNvPr id="179" name="Звук с компакт-диска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450720" y="-31752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Владелец\Мои документы\Мои рисунки\1008.jpg"/>
          <p:cNvPicPr/>
          <p:nvPr/>
        </p:nvPicPr>
        <p:blipFill>
          <a:blip r:embed="rId2"/>
          <a:stretch/>
        </p:blipFill>
        <p:spPr>
          <a:xfrm>
            <a:off x="214200" y="785880"/>
            <a:ext cx="4494240" cy="3000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Владелец\Мои документы\Мои рисунки\zal4_img3.jpg"/>
          <p:cNvPicPr/>
          <p:nvPr/>
        </p:nvPicPr>
        <p:blipFill>
          <a:blip r:embed="rId3"/>
          <a:stretch/>
        </p:blipFill>
        <p:spPr>
          <a:xfrm>
            <a:off x="4286160" y="2928960"/>
            <a:ext cx="46436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450720" y="-24912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Владелец\Мои документы\Мои рисунки\350x280.gif"/>
          <p:cNvPicPr/>
          <p:nvPr/>
        </p:nvPicPr>
        <p:blipFill>
          <a:blip r:embed="rId2"/>
          <a:stretch/>
        </p:blipFill>
        <p:spPr>
          <a:xfrm>
            <a:off x="785880" y="107172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Documents and Settings\Владелец\Мои документы\Мои рисунки\навигатор 2\2005_11_11_rasvedka.jpg"/>
          <p:cNvPicPr/>
          <p:nvPr/>
        </p:nvPicPr>
        <p:blipFill>
          <a:blip r:embed="rId2"/>
          <a:stretch/>
        </p:blipFill>
        <p:spPr>
          <a:xfrm>
            <a:off x="4572000" y="3643200"/>
            <a:ext cx="4159080" cy="2551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Documents and Settings\Владелец\Мои документы\Мои рисунки\навигатор 2\lomonosov.jpg"/>
          <p:cNvPicPr/>
          <p:nvPr/>
        </p:nvPicPr>
        <p:blipFill>
          <a:blip r:embed="rId3"/>
          <a:stretch/>
        </p:blipFill>
        <p:spPr>
          <a:xfrm>
            <a:off x="285840" y="928800"/>
            <a:ext cx="3786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2" descr=""/>
          <p:cNvPicPr/>
          <p:nvPr/>
        </p:nvPicPr>
        <p:blipFill>
          <a:blip r:embed="rId1"/>
          <a:stretch/>
        </p:blipFill>
        <p:spPr>
          <a:xfrm>
            <a:off x="291960" y="-103320"/>
            <a:ext cx="8560080" cy="118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Documents and Settings\Владелец\Мои документы\Мои рисунки\3323pain2307.jpg"/>
          <p:cNvPicPr/>
          <p:nvPr/>
        </p:nvPicPr>
        <p:blipFill>
          <a:blip r:embed="rId2"/>
          <a:stretch/>
        </p:blipFill>
        <p:spPr>
          <a:xfrm>
            <a:off x="214200" y="1071720"/>
            <a:ext cx="5143680" cy="406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Documents and Settings\Владелец\Мои документы\Мои рисунки\навигатор 2\1001319037.jpg"/>
          <p:cNvPicPr/>
          <p:nvPr/>
        </p:nvPicPr>
        <p:blipFill>
          <a:blip r:embed="rId3"/>
          <a:stretch/>
        </p:blipFill>
        <p:spPr>
          <a:xfrm>
            <a:off x="5715000" y="1717560"/>
            <a:ext cx="3076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528040" cy="1231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upload.wikimedia.org/wikipedia/commons/thumb/f/fb/Ekaterina_II_and_Lomonosov.jpg/250px-Ekaterina_II_and_Lomonoso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1357200"/>
            <a:ext cx="3786120" cy="47865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5"/>
          <p:cNvSpPr/>
          <p:nvPr/>
        </p:nvSpPr>
        <p:spPr>
          <a:xfrm>
            <a:off x="4071960" y="142884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) закончил 1-й том Российской истор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) составил «Краткий летописец с родословием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350px-Poltava"/>
          <p:cNvPicPr/>
          <p:nvPr/>
        </p:nvPicPr>
        <p:blipFill>
          <a:blip r:embed="rId2"/>
          <a:stretch/>
        </p:blipFill>
        <p:spPr>
          <a:xfrm>
            <a:off x="428760" y="928800"/>
            <a:ext cx="82152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2243160" y="268200"/>
            <a:ext cx="645012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2"/>
          <a:stretch/>
        </p:blipFill>
        <p:spPr>
          <a:xfrm>
            <a:off x="5857920" y="2500200"/>
            <a:ext cx="2981160" cy="4000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3"/>
          <a:stretch/>
        </p:blipFill>
        <p:spPr>
          <a:xfrm>
            <a:off x="0" y="2755800"/>
            <a:ext cx="5072040" cy="4102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1857240" cy="24447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3"/>
          <p:cNvSpPr/>
          <p:nvPr/>
        </p:nvSpPr>
        <p:spPr>
          <a:xfrm>
            <a:off x="2916360" y="141264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25 января 1755 года был открыт первый в России Московский универси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48480" cy="2419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4857840" cy="4006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Герб"/>
          <p:cNvPicPr/>
          <p:nvPr/>
        </p:nvPicPr>
        <p:blipFill>
          <a:blip r:embed="rId3"/>
          <a:stretch/>
        </p:blipFill>
        <p:spPr>
          <a:xfrm>
            <a:off x="6429240" y="2708280"/>
            <a:ext cx="2390760" cy="239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2" descr=""/>
          <p:cNvPicPr/>
          <p:nvPr/>
        </p:nvPicPr>
        <p:blipFill>
          <a:blip r:embed="rId1"/>
          <a:stretch/>
        </p:blipFill>
        <p:spPr>
          <a:xfrm>
            <a:off x="262080" y="19080"/>
            <a:ext cx="8424720" cy="1011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Владелец\Мои документы\Мои рисунки\4February2007_25_3.jpg"/>
          <p:cNvPicPr/>
          <p:nvPr/>
        </p:nvPicPr>
        <p:blipFill>
          <a:blip r:embed="rId2"/>
          <a:stretch/>
        </p:blipFill>
        <p:spPr>
          <a:xfrm>
            <a:off x="428760" y="7858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Владелец\Мои документы\Мои рисунки\146127.jpg"/>
          <p:cNvPicPr/>
          <p:nvPr/>
        </p:nvPicPr>
        <p:blipFill>
          <a:blip r:embed="rId3"/>
          <a:stretch/>
        </p:blipFill>
        <p:spPr>
          <a:xfrm>
            <a:off x="5357880" y="1143000"/>
            <a:ext cx="3429000" cy="43578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428920" y="542916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амятни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М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омоносову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img1"/>
          <p:cNvPicPr/>
          <p:nvPr/>
        </p:nvPicPr>
        <p:blipFill>
          <a:blip r:embed="rId1"/>
          <a:stretch/>
        </p:blipFill>
        <p:spPr>
          <a:xfrm>
            <a:off x="714240" y="285840"/>
            <a:ext cx="3929040" cy="4951440"/>
          </a:xfrm>
          <a:prstGeom prst="rect">
            <a:avLst/>
          </a:prstGeom>
          <a:ln w="0">
            <a:noFill/>
          </a:ln>
        </p:spPr>
      </p:pic>
      <p:pic>
        <p:nvPicPr>
          <p:cNvPr id="181" name="WordArt 7" descr=""/>
          <p:cNvPicPr/>
          <p:nvPr/>
        </p:nvPicPr>
        <p:blipFill>
          <a:blip r:embed="rId2"/>
          <a:stretch/>
        </p:blipFill>
        <p:spPr>
          <a:xfrm>
            <a:off x="208080" y="5138640"/>
            <a:ext cx="857088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lomonos1"/>
          <p:cNvPicPr/>
          <p:nvPr/>
        </p:nvPicPr>
        <p:blipFill>
          <a:blip r:embed="rId1"/>
          <a:stretch/>
        </p:blipFill>
        <p:spPr>
          <a:xfrm>
            <a:off x="468360" y="260280"/>
            <a:ext cx="4535280" cy="561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5219640" y="1413000"/>
            <a:ext cx="367344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ойдут века, а его имя с почтением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удет произноситься миллионами русских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людей и уважаться не в одной России,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 везде, куда ни проникнет русская речь,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усская грамота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540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Cambria"/>
              </a:rPr>
              <a:t>За то терплю, что стараюсь защитить  труды Петра Великого, чтобы выучились россияне, чтобы показали своё достоинство.</a:t>
            </a: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28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Cambria"/>
              </a:rPr>
              <a:t>Михаил Васильевич Ломоносов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285840" y="1071720"/>
            <a:ext cx="7215120" cy="52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19 ноября 1711 год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10"/>
          <p:cNvSpPr txBox="1"/>
          <p:nvPr/>
        </p:nvSpPr>
        <p:spPr>
          <a:xfrm>
            <a:off x="971640" y="4724280"/>
            <a:ext cx="76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84" name="Прямоугольник 4" descr=""/>
          <p:cNvPicPr/>
          <p:nvPr/>
        </p:nvPicPr>
        <p:blipFill>
          <a:blip r:embed="rId1"/>
          <a:stretch/>
        </p:blipFill>
        <p:spPr>
          <a:xfrm>
            <a:off x="542880" y="4840200"/>
            <a:ext cx="8388360" cy="2060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D:\школа\клип\Клип_25_измен.размер_измен.размер.jpg"/>
          <p:cNvPicPr/>
          <p:nvPr/>
        </p:nvPicPr>
        <p:blipFill>
          <a:blip r:embed="rId2"/>
          <a:stretch/>
        </p:blipFill>
        <p:spPr>
          <a:xfrm>
            <a:off x="1357200" y="714240"/>
            <a:ext cx="6429600" cy="41436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7"/>
          <p:cNvSpPr txBox="1"/>
          <p:nvPr/>
        </p:nvSpPr>
        <p:spPr>
          <a:xfrm>
            <a:off x="4357800" y="0"/>
            <a:ext cx="47862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Юноша Ломоно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87" name="WordArt 8"/>
          <p:cNvSpPr txBox="1"/>
          <p:nvPr/>
        </p:nvSpPr>
        <p:spPr>
          <a:xfrm>
            <a:off x="4357800" y="1214280"/>
            <a:ext cx="4357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идет в Москв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88" name="Picture 6" descr="C:\Documents and Settings\Владелец\Мои документы\Мои рисунки\image_large.jpg"/>
          <p:cNvPicPr/>
          <p:nvPr/>
        </p:nvPicPr>
        <p:blipFill>
          <a:blip r:embed="rId1"/>
          <a:stretch/>
        </p:blipFill>
        <p:spPr>
          <a:xfrm>
            <a:off x="0" y="0"/>
            <a:ext cx="4071960" cy="613260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5"/>
          <p:cNvSpPr/>
          <p:nvPr/>
        </p:nvSpPr>
        <p:spPr>
          <a:xfrm>
            <a:off x="4071960" y="2643120"/>
            <a:ext cx="507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 без добрых душ на свет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то-нибудь свезет в Москву,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удешь в университет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он свершится ная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91" name="Picture 2" descr="C:\Documents and Settings\Владелец\Мои документы\Мои рисунки\MP Navigator\2009_11_18\IMG_0001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421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4643280" y="1143000"/>
            <a:ext cx="4071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Карта пути Ломонос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в Москв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212760" y="-30240"/>
            <a:ext cx="8961480" cy="2035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D:\школа\клип\Клип_11_измен.размер.jpg"/>
          <p:cNvPicPr/>
          <p:nvPr/>
        </p:nvPicPr>
        <p:blipFill>
          <a:blip r:embed="rId2"/>
          <a:stretch/>
        </p:blipFill>
        <p:spPr>
          <a:xfrm>
            <a:off x="857160" y="2000160"/>
            <a:ext cx="7358040" cy="40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4614840" cy="2528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Владелец\Мои документы\Мои рисунки\250px-Lomonosov_%283%29.jpg"/>
          <p:cNvPicPr/>
          <p:nvPr/>
        </p:nvPicPr>
        <p:blipFill>
          <a:blip r:embed="rId2"/>
          <a:stretch/>
        </p:blipFill>
        <p:spPr>
          <a:xfrm>
            <a:off x="4143240" y="928800"/>
            <a:ext cx="5000760" cy="5929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9288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а) разработал правила грамматики русского языка, составил книгу «Российская грамматика»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б) выпустил «Риторику», которая стала по сути первой в России хрестоматией мировой литературы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в) в 1751 году выше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«Сборник разных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сочинений в стихах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и прозе Михаила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Ломоносова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9" name="Заголовок 2" descr=""/>
          <p:cNvPicPr/>
          <p:nvPr/>
        </p:nvPicPr>
        <p:blipFill>
          <a:blip r:embed="rId1"/>
          <a:stretch/>
        </p:blipFill>
        <p:spPr>
          <a:xfrm>
            <a:off x="176040" y="-317520"/>
            <a:ext cx="8791920" cy="1182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D:\школа\клип\Клип_14_измен.размер_измен.размер.jpg"/>
          <p:cNvPicPr/>
          <p:nvPr/>
        </p:nvPicPr>
        <p:blipFill>
          <a:blip r:embed="rId2"/>
          <a:stretch/>
        </p:blipFill>
        <p:spPr>
          <a:xfrm>
            <a:off x="4357800" y="3643200"/>
            <a:ext cx="42796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15:13Z</dcterms:created>
  <dc:creator>Светик&amp;Ko</dc:creator>
  <dc:description/>
  <dc:language>en-US</dc:language>
  <cp:lastModifiedBy>Пользователь Windows</cp:lastModifiedBy>
  <dcterms:modified xsi:type="dcterms:W3CDTF">2011-11-01T05:50:49Z</dcterms:modified>
  <cp:revision>35</cp:revision>
  <dc:subject/>
  <dc:title>Слайд 1</dc:title>
</cp:coreProperties>
</file>